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B64-DA0A-4AA7-B76E-600354DA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61B-72ED-49A4-B2E2-2AD64C0D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C86-4841-4B8B-8D10-27C1EAC6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DA1-6986-4579-8309-7805B73E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F25-13F9-4A93-B692-E97B7881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6A1-DA77-4728-9150-ED7FB689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8C8-52D3-4225-9FD8-3A84270A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F7E-6D3B-43BD-A442-B17BD331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38E-33B1-42BA-B4F7-07A9D8D3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7D2-2D63-43C2-8151-3CD5805C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270B-D163-4522-A80F-F3A675B4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ABF-DB7D-4765-A202-7A7EB0DE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a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9D2B-7510-4065-9CEB-393639FA3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ew.volsu.ru/Partners/ForeignPartners/wEurope/deutschland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ib.ua-ru.net/diss/cont/108632.html" TargetMode="External"/><Relationship Id="rId2" Type="http://schemas.openxmlformats.org/officeDocument/2006/relationships/hyperlink" Target="http://www.mirrabot.com/work/work_62554.html" TargetMode="External"/><Relationship Id="rId3" Type="http://schemas.openxmlformats.org/officeDocument/2006/relationships/hyperlink" Target="http://scepsis.ru/library/id_1336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a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7 из 3516">
            <a:hlinkClick r:id="rId1"/>
          </p:cNvPr>
          <p:cNvPicPr/>
          <p:nvPr/>
        </p:nvPicPr>
        <p:blipFill>
          <a:blip r:embed="rId2"/>
          <a:stretch/>
        </p:blipFill>
        <p:spPr>
          <a:xfrm rot="20902800">
            <a:off x="3425760" y="1555560"/>
            <a:ext cx="2157480" cy="93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 rot="20865000">
            <a:off x="1331640" y="2060640"/>
            <a:ext cx="1751040" cy="876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0828400">
            <a:off x="826560" y="148392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блемы молодёжи</a:t>
            </a:r>
            <a:endParaRPr b="1" lang="en-US" sz="4800" spc="1" strike="noStrike">
              <a:ln w="9360">
                <a:solidFill>
                  <a:srgbClr val="80008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4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России  и Германии</a:t>
            </a:r>
            <a:endParaRPr b="1" lang="en-US" sz="4800" spc="1" strike="noStrike">
              <a:ln w="9360">
                <a:solidFill>
                  <a:srgbClr val="80008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12000" y="2205000"/>
            <a:ext cx="2885760" cy="3943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71640" y="3141720"/>
            <a:ext cx="4314600" cy="293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0920" y="616572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630864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6216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студентка 426 группы Бороненко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a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71640" y="836640"/>
            <a:ext cx="7067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ополагающий 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: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03280" y="2637000"/>
            <a:ext cx="6496200" cy="30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представляет собой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годняшняя молодёжь?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a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908000" y="404640"/>
            <a:ext cx="5153040" cy="17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ные 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ы: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637000"/>
            <a:ext cx="7777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Есть ли у молодёжи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Существуют ли отличия проблем молодёжи России и Герм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a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627280" y="404640"/>
            <a:ext cx="3648240" cy="17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астные 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ы: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56536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844640"/>
            <a:ext cx="82072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Что такое пробл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Какие виды проблем сегодняшней молодёжи можно выдел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По каким причинам они возник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Какие способы их решения существу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Все ли способы эффектив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Кто помогает подросткам справиться с ни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a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19280" y="2205000"/>
            <a:ext cx="5689440" cy="4508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00000" y="476280"/>
            <a:ext cx="725508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зультаты исследования 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нной темы: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3141720"/>
            <a:ext cx="48974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фер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б-сай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блик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с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нгаз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л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a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332000" y="765000"/>
            <a:ext cx="64227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должительность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екта: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637000"/>
            <a:ext cx="58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ект рассчитан на 2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го 4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a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42920" y="692280"/>
            <a:ext cx="727416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Информацию можно найти по следующим ссылка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b.ua-ru.net/diss/cont/108632.html#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irrabot.com/work/work_6255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cepsis.ru/library/id_1336.htm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06:37Z</dcterms:created>
  <dc:creator>User_10</dc:creator>
  <dc:description/>
  <dc:language>en-US</dc:language>
  <cp:lastModifiedBy>User_10</cp:lastModifiedBy>
  <dcterms:modified xsi:type="dcterms:W3CDTF">2009-10-15T10:59:46Z</dcterms:modified>
  <cp:revision>3</cp:revision>
  <dc:subject/>
  <dc:title>Слайд 1</dc:title>
</cp:coreProperties>
</file>